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zh-TW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zh-TW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0D4A12-2B0E-44E6-BB8A-0D2692B6E054}" type="slidenum">
              <a:rPr b="0" lang="zh-TW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投影片編號版面配置區 3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84D952-0CDA-4859-B9C1-7AA764707DB9}" type="slidenum">
              <a:rPr b="0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DCF27-452B-4FED-B77C-FCC2AE90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CC447-D7FF-46F3-936D-5F66458E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C5D1-FE3B-4FF5-B959-7A469C7B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ED76B-2595-4534-8FEF-2A96225E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D241-599E-42E3-9B97-099E57B0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224F-D197-4B4C-B07F-A0D50D65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A1E9-A1F3-43FE-8845-33D1BCB3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F1F4-3654-4286-AFEB-0F63D6B7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D1BC-25B2-4DCB-B6F3-D1DA50C0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CA68-DB76-40A5-9979-25D24BBD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D2B4-895F-4FCB-8CF9-B45F184E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94E1-B2B8-4988-A98E-5B5224C4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CE80-4FC8-4FB6-B4C3-34F31621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4769-ECC2-4186-8F37-C541F9D9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EA9E-A3BA-409C-9916-7480966C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397F-D358-494F-9901-F6AC1FDF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BA86-73C3-4504-82F0-A7534CE4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5885-3943-4C74-8177-BFA18985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8C0CE-7CC9-405A-9946-FE0A9EA9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CBAD1-7ED5-4371-BCE7-DCA6879D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09345-8D69-4DDA-91C7-B3D21979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31A40-3E82-49AE-BA0D-8033B69D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CA5E1-C1FE-401A-A64A-C23091F1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B06D-BFCA-4E17-9824-DFC8604C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4452-4541-406B-9441-8E4ACBC53A40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C0D3-B57F-4B62-87CB-570419FD3EDA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e5e5ff"/>
                </a:solidFill>
                <a:latin typeface="Garamond"/>
              </a:rPr>
              <a:t>  </a:t>
            </a:r>
            <a:r>
              <a:rPr b="1" lang="zh-TW" sz="6000" spc="-1" strike="noStrike">
                <a:solidFill>
                  <a:srgbClr val="e5e5ff"/>
                </a:solidFill>
                <a:latin typeface="Garamond"/>
              </a:rPr>
              <a:t>花蓮的蛙類世界</a:t>
            </a: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（二）</a:t>
            </a:r>
            <a:br>
              <a:rPr sz="4400"/>
            </a:br>
            <a:r>
              <a:rPr b="1" lang="zh-TW" sz="4400" spc="-1" strike="noStrike">
                <a:solidFill>
                  <a:srgbClr val="fffee5"/>
                </a:solidFill>
                <a:latin typeface="Garamond"/>
              </a:rPr>
              <a:t>猜猜我是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東華大學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自然資源與環境學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楊懿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9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Picture 3" descr="艾氏樹蛙卵"/>
          <p:cNvPicPr/>
          <p:nvPr/>
        </p:nvPicPr>
        <p:blipFill>
          <a:blip r:embed="rId1"/>
          <a:stretch/>
        </p:blipFill>
        <p:spPr>
          <a:xfrm>
            <a:off x="1403280" y="1557360"/>
            <a:ext cx="6696000" cy="4468680"/>
          </a:xfrm>
          <a:prstGeom prst="rect">
            <a:avLst/>
          </a:prstGeom>
          <a:ln w="0">
            <a:noFill/>
          </a:ln>
        </p:spPr>
      </p:pic>
      <p:pic>
        <p:nvPicPr>
          <p:cNvPr id="144" name="艾氏樹蛙.wav" descr=""/>
          <p:cNvPicPr/>
          <p:nvPr/>
        </p:nvPicPr>
        <p:blipFill>
          <a:blip r:embed="rId2"/>
          <a:stretch/>
        </p:blipFill>
        <p:spPr>
          <a:xfrm>
            <a:off x="611280" y="5950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6689160" y="98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  <a:ea typeface="標楷體"/>
              </a:rPr>
              <a:t>艾氏樹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997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0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7" name="Picture 3" descr="032"/>
          <p:cNvPicPr/>
          <p:nvPr/>
        </p:nvPicPr>
        <p:blipFill>
          <a:blip r:embed="rId1"/>
          <a:stretch/>
        </p:blipFill>
        <p:spPr>
          <a:xfrm>
            <a:off x="1258920" y="1484280"/>
            <a:ext cx="6769080" cy="4633920"/>
          </a:xfrm>
          <a:prstGeom prst="rect">
            <a:avLst/>
          </a:prstGeom>
          <a:ln w="0">
            <a:noFill/>
          </a:ln>
        </p:spPr>
      </p:pic>
      <p:pic>
        <p:nvPicPr>
          <p:cNvPr id="148" name="莫氏樹蛙.wav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6617880" y="83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  <a:ea typeface="標楷體"/>
              </a:rPr>
              <a:t>莫氏樹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5488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白頷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33280" y="692280"/>
            <a:ext cx="8675640" cy="59436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4427640" y="69228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c00"/>
                </a:solidFill>
                <a:latin typeface="Arial"/>
                <a:ea typeface="華康少女文字W5(P)"/>
              </a:rPr>
              <a:t>歡迎加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c00"/>
                </a:solidFill>
                <a:latin typeface="Arial"/>
                <a:ea typeface="華康少女文字W5(P)"/>
              </a:rPr>
              <a:t>楊懿如的青蛙學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標楷體"/>
              </a:rPr>
              <a:t>http://www.froghome.idv.t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白頷樹蛙.wav" descr=""/>
          <p:cNvPicPr/>
          <p:nvPr/>
        </p:nvPicPr>
        <p:blipFill>
          <a:blip r:embed="rId2"/>
          <a:stretch/>
        </p:blipFill>
        <p:spPr>
          <a:xfrm>
            <a:off x="7572240" y="5572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2036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5e5ff"/>
                </a:solidFill>
                <a:latin typeface="Garamond"/>
              </a:rPr>
              <a:t>猜猜我是誰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1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貢德氏赤蛙-1"/>
          <p:cNvPicPr/>
          <p:nvPr/>
        </p:nvPicPr>
        <p:blipFill>
          <a:blip r:embed="rId1"/>
          <a:stretch/>
        </p:blipFill>
        <p:spPr>
          <a:xfrm>
            <a:off x="900000" y="1413000"/>
            <a:ext cx="7345440" cy="4979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6462720" y="765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  <a:ea typeface="標楷體"/>
              </a:rPr>
              <a:t>貢德氏赤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貢德氏赤蛙.wav" descr=""/>
          <p:cNvPicPr/>
          <p:nvPr/>
        </p:nvPicPr>
        <p:blipFill>
          <a:blip r:embed="rId2"/>
          <a:stretch/>
        </p:blipFill>
        <p:spPr>
          <a:xfrm>
            <a:off x="35712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003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2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4" descr="斯文豪氏赤蛙-2"/>
          <p:cNvPicPr/>
          <p:nvPr/>
        </p:nvPicPr>
        <p:blipFill>
          <a:blip r:embed="rId1"/>
          <a:stretch/>
        </p:blipFill>
        <p:spPr>
          <a:xfrm>
            <a:off x="1187280" y="1413000"/>
            <a:ext cx="6840720" cy="4443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6307920" y="765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  <a:ea typeface="標楷體"/>
              </a:rPr>
              <a:t>斯文豪氏赤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斯文豪氏赤蛙.wav" descr=""/>
          <p:cNvPicPr/>
          <p:nvPr/>
        </p:nvPicPr>
        <p:blipFill>
          <a:blip r:embed="rId2"/>
          <a:stretch/>
        </p:blipFill>
        <p:spPr>
          <a:xfrm>
            <a:off x="142920" y="5500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291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4" descr="拉都希氏赤蛙-1"/>
          <p:cNvPicPr/>
          <p:nvPr/>
        </p:nvPicPr>
        <p:blipFill>
          <a:blip r:embed="rId1"/>
          <a:stretch/>
        </p:blipFill>
        <p:spPr>
          <a:xfrm>
            <a:off x="1042920" y="1341360"/>
            <a:ext cx="7345440" cy="4915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6668280" y="620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  <a:ea typeface="標楷體"/>
              </a:rPr>
              <a:t>拉都希氏赤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拉都希氏赤蛙.wav" descr=""/>
          <p:cNvPicPr/>
          <p:nvPr/>
        </p:nvPicPr>
        <p:blipFill>
          <a:blip r:embed="rId2"/>
          <a:stretch/>
        </p:blipFill>
        <p:spPr>
          <a:xfrm>
            <a:off x="285840" y="564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387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4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4" descr="澤蛙-4_楊胤勛攝"/>
          <p:cNvPicPr/>
          <p:nvPr/>
        </p:nvPicPr>
        <p:blipFill>
          <a:blip r:embed="rId1"/>
          <a:stretch/>
        </p:blipFill>
        <p:spPr>
          <a:xfrm>
            <a:off x="826920" y="1484280"/>
            <a:ext cx="7561440" cy="5040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7287840" y="90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  <a:ea typeface="標楷體"/>
              </a:rPr>
              <a:t>澤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澤蛙.wav" descr=""/>
          <p:cNvPicPr/>
          <p:nvPr/>
        </p:nvPicPr>
        <p:blipFill>
          <a:blip r:embed="rId2"/>
          <a:stretch/>
        </p:blipFill>
        <p:spPr>
          <a:xfrm>
            <a:off x="21420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159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5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4" descr="小雨蛙-3"/>
          <p:cNvPicPr/>
          <p:nvPr/>
        </p:nvPicPr>
        <p:blipFill>
          <a:blip r:embed="rId1"/>
          <a:stretch/>
        </p:blipFill>
        <p:spPr>
          <a:xfrm>
            <a:off x="1476360" y="1628640"/>
            <a:ext cx="6840720" cy="44974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7133040" y="836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  <a:ea typeface="標楷體"/>
              </a:rPr>
              <a:t>小雨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小雨蛙.wav" descr=""/>
          <p:cNvPicPr/>
          <p:nvPr/>
        </p:nvPicPr>
        <p:blipFill>
          <a:blip r:embed="rId2"/>
          <a:stretch/>
        </p:blipFill>
        <p:spPr>
          <a:xfrm>
            <a:off x="57168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90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6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4" descr="中國樹蟾-2"/>
          <p:cNvPicPr/>
          <p:nvPr/>
        </p:nvPicPr>
        <p:blipFill>
          <a:blip r:embed="rId1"/>
          <a:stretch/>
        </p:blipFill>
        <p:spPr>
          <a:xfrm>
            <a:off x="755640" y="1413000"/>
            <a:ext cx="7488360" cy="50115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6833520" y="765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  <a:ea typeface="標楷體"/>
              </a:rPr>
              <a:t>中國樹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中國樹蟾.wav" descr=""/>
          <p:cNvPicPr/>
          <p:nvPr/>
        </p:nvPicPr>
        <p:blipFill>
          <a:blip r:embed="rId2"/>
          <a:stretch/>
        </p:blipFill>
        <p:spPr>
          <a:xfrm>
            <a:off x="21420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9834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7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Picture 3" descr="日本樹蛙鳴叫"/>
          <p:cNvPicPr/>
          <p:nvPr/>
        </p:nvPicPr>
        <p:blipFill>
          <a:blip r:embed="rId1"/>
          <a:stretch/>
        </p:blipFill>
        <p:spPr>
          <a:xfrm>
            <a:off x="1403280" y="1413000"/>
            <a:ext cx="7056360" cy="4620960"/>
          </a:xfrm>
          <a:prstGeom prst="rect">
            <a:avLst/>
          </a:prstGeom>
          <a:ln w="0">
            <a:noFill/>
          </a:ln>
        </p:spPr>
      </p:pic>
      <p:pic>
        <p:nvPicPr>
          <p:cNvPr id="135" name="日本樹蛙.wav" descr=""/>
          <p:cNvPicPr/>
          <p:nvPr/>
        </p:nvPicPr>
        <p:blipFill>
          <a:blip r:embed="rId2"/>
          <a:stretch/>
        </p:blipFill>
        <p:spPr>
          <a:xfrm>
            <a:off x="611280" y="5877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122600" y="98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  <a:ea typeface="標楷體"/>
              </a:rPr>
              <a:t>日本樹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533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8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黑眶蟾蜍-1"/>
          <p:cNvPicPr/>
          <p:nvPr/>
        </p:nvPicPr>
        <p:blipFill>
          <a:blip r:embed="rId1"/>
          <a:stretch/>
        </p:blipFill>
        <p:spPr>
          <a:xfrm>
            <a:off x="971640" y="1413000"/>
            <a:ext cx="7561080" cy="5060880"/>
          </a:xfrm>
          <a:prstGeom prst="rect">
            <a:avLst/>
          </a:prstGeom>
          <a:ln w="0">
            <a:noFill/>
          </a:ln>
        </p:spPr>
      </p:pic>
      <p:pic>
        <p:nvPicPr>
          <p:cNvPr id="140" name="黑眶蟾蜍.wav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7265520" y="765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  <a:ea typeface="標楷體"/>
              </a:rPr>
              <a:t>黑眶蟾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63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6:29:04Z</dcterms:created>
  <dc:creator>林育禾</dc:creator>
  <dc:description/>
  <dc:language>en-US</dc:language>
  <cp:lastModifiedBy>妹妹</cp:lastModifiedBy>
  <dcterms:modified xsi:type="dcterms:W3CDTF">2012-06-25T08:35:43Z</dcterms:modified>
  <cp:revision>72</cp:revision>
  <dc:subject/>
  <dc:title>投影片 1</dc:title>
</cp:coreProperties>
</file>