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11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92DF-410B-4828-A061-B322E6E56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DAC9-D5F3-41C3-AABC-5F3101336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1665-B31F-4C3B-AFD9-EEB1CD7D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EC9-829A-4707-B8D9-C4CA933C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39DF-CB39-4A86-B48B-65DCF341B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337F1-1047-4ECB-8F0C-801B32D2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0A22-3C5B-406E-92BA-E48BD53D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CA2B0-3E6D-4116-800F-4505D5E5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5F93-5150-48B9-8B98-96AA03EB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469B-418A-4F3E-A0AC-1C2505ED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C2B4-568A-4815-BFE0-D19A4457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7FC-ABA5-4B26-81D1-92B81638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1E3C-B433-4498-AB97-BEE257F1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3875-0824-4792-BBB5-B788B95E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EBB3-ED59-4EF2-9A23-E0F75DAB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0050-FBE9-4457-BAC8-F73DC015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1AFA-2CA1-4EFC-8646-660F33CD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912B-D856-4618-B794-71910ECA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DCB1-62F6-4F24-9C71-CDEC62F4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666-9061-4F61-8B8C-62784A48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3EB4-5FC7-477A-9CAD-4AB9B04F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A41-0190-4F68-B033-D137C630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31B-D0B3-4834-804F-F2AAFCEC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DFEF-AB64-4E8E-AFF2-6708C15F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FC63-F0A0-48F0-8DC3-2D33CDF3DB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54F6-35E3-41E9-9C60-185AA02ACB3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5640" y="1483920"/>
            <a:ext cx="6767640" cy="151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ffffff"/>
                </a:solidFill>
                <a:latin typeface="華康墨字體"/>
              </a:rPr>
              <a:t>聽青蛙在唱歌</a:t>
            </a:r>
            <a:r>
              <a:rPr b="0" lang="en-US" sz="6000" spc="-1" strike="noStrike">
                <a:solidFill>
                  <a:srgbClr val="ffffff"/>
                </a:solidFill>
                <a:latin typeface="華康墨字體"/>
              </a:rPr>
              <a:t>(</a:t>
            </a:r>
            <a:r>
              <a:rPr b="0" lang="zh-TW" sz="6000" spc="-1" strike="noStrike">
                <a:solidFill>
                  <a:srgbClr val="ffffff"/>
                </a:solidFill>
                <a:latin typeface="華康墨字體"/>
              </a:rPr>
              <a:t>一</a:t>
            </a:r>
            <a:r>
              <a:rPr b="0" lang="en-US" sz="6000" spc="-1" strike="noStrike">
                <a:solidFill>
                  <a:srgbClr val="ffffff"/>
                </a:solidFill>
                <a:latin typeface="華康墨字體"/>
              </a:rPr>
              <a:t>)</a:t>
            </a:r>
            <a:br>
              <a:rPr sz="6000"/>
            </a:br>
            <a:r>
              <a:rPr b="0" lang="zh-TW" sz="4000" spc="-1" strike="noStrike">
                <a:solidFill>
                  <a:srgbClr val="ffff66"/>
                </a:solidFill>
                <a:latin typeface="華康墨字體"/>
              </a:rPr>
              <a:t>青蛙為什麼唱歌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5640" y="3048120"/>
            <a:ext cx="45594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墨字體"/>
              </a:rPr>
              <a:t>東華大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墨字體"/>
              </a:rPr>
              <a:t>自然資源與環境學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華康墨字體"/>
              </a:rPr>
              <a:t>楊 懿 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b2b2b2"/>
                </a:solidFill>
                <a:latin typeface="華康墨字體"/>
              </a:rPr>
              <a:t>下雨了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7" name="Picture 6" descr="中國樹蟾（葉上）"/>
          <p:cNvPicPr/>
          <p:nvPr/>
        </p:nvPicPr>
        <p:blipFill>
          <a:blip r:embed="rId1"/>
          <a:stretch/>
        </p:blipFill>
        <p:spPr>
          <a:xfrm>
            <a:off x="324000" y="1720800"/>
            <a:ext cx="5111640" cy="3416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玩偶-3"/>
          <p:cNvPicPr/>
          <p:nvPr/>
        </p:nvPicPr>
        <p:blipFill>
          <a:blip r:embed="rId2"/>
          <a:stretch/>
        </p:blipFill>
        <p:spPr>
          <a:xfrm>
            <a:off x="5148360" y="1268280"/>
            <a:ext cx="3751200" cy="5002200"/>
          </a:xfrm>
          <a:prstGeom prst="rect">
            <a:avLst/>
          </a:prstGeom>
          <a:ln w="0">
            <a:noFill/>
          </a:ln>
        </p:spPr>
      </p:pic>
      <p:pic>
        <p:nvPicPr>
          <p:cNvPr id="139" name="中國樹蟾.wav" descr=""/>
          <p:cNvPicPr/>
          <p:nvPr/>
        </p:nvPicPr>
        <p:blipFill>
          <a:blip r:embed="rId3"/>
          <a:stretch/>
        </p:blipFill>
        <p:spPr>
          <a:xfrm>
            <a:off x="380880" y="60958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3394800" y="5108400"/>
            <a:ext cx="140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新細明體"/>
              </a:rPr>
              <a:t>中國樹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新細明體"/>
              </a:rPr>
              <a:t>        </a:t>
            </a:r>
            <a:r>
              <a:rPr b="0" lang="zh-TW" sz="1800" spc="-1" strike="noStrike">
                <a:solidFill>
                  <a:srgbClr val="ffffff"/>
                </a:solidFill>
                <a:latin typeface="新細明體"/>
              </a:rPr>
              <a:t>雨蛙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新細明體"/>
              </a:rPr>
              <a:t>        </a:t>
            </a:r>
            <a:r>
              <a:rPr b="0" lang="zh-TW" sz="1800" spc="-1" strike="noStrike">
                <a:solidFill>
                  <a:srgbClr val="ffffff"/>
                </a:solidFill>
                <a:latin typeface="新細明體"/>
              </a:rPr>
              <a:t>雨怪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019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b2b2b2"/>
                </a:solidFill>
                <a:latin typeface="Arial"/>
              </a:rPr>
              <a:t>青蛙如何唱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556000" y="1628640"/>
            <a:ext cx="9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鼻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340000" y="450864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鳴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2772720" y="4387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鳴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4755960" y="2300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咽喉（聲帶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032080" y="35956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13"/>
          <p:cNvSpPr/>
          <p:nvPr/>
        </p:nvSpPr>
        <p:spPr>
          <a:xfrm>
            <a:off x="4767120" y="3595680"/>
            <a:ext cx="8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3801600" y="17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口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1258920" y="4653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鳴囊開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開口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6"/>
          <p:cNvSpPr/>
          <p:nvPr/>
        </p:nvSpPr>
        <p:spPr>
          <a:xfrm>
            <a:off x="1258920" y="1844640"/>
            <a:ext cx="10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舌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內容版面配置區 13" descr="蛙鳴結構圖.jpg"/>
          <p:cNvPicPr/>
          <p:nvPr/>
        </p:nvPicPr>
        <p:blipFill>
          <a:blip r:embed="rId1"/>
          <a:stretch/>
        </p:blipFill>
        <p:spPr>
          <a:xfrm>
            <a:off x="357120" y="1428840"/>
            <a:ext cx="84297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b2b2b2"/>
                </a:solidFill>
                <a:latin typeface="華康墨字體"/>
              </a:rPr>
              <a:t>鳴 囊 形 狀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3" name="Picture 4" descr="Rhacophorus_arvalis_W-1"/>
          <p:cNvPicPr/>
          <p:nvPr/>
        </p:nvPicPr>
        <p:blipFill>
          <a:blip r:embed="rId1"/>
          <a:stretch/>
        </p:blipFill>
        <p:spPr>
          <a:xfrm>
            <a:off x="468360" y="3645000"/>
            <a:ext cx="3771720" cy="2828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Rana_adenopleura_W-1"/>
          <p:cNvPicPr/>
          <p:nvPr/>
        </p:nvPicPr>
        <p:blipFill>
          <a:blip r:embed="rId2"/>
          <a:stretch/>
        </p:blipFill>
        <p:spPr>
          <a:xfrm>
            <a:off x="5076720" y="98100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貢得"/>
          <p:cNvPicPr/>
          <p:nvPr/>
        </p:nvPicPr>
        <p:blipFill>
          <a:blip r:embed="rId3"/>
          <a:stretch/>
        </p:blipFill>
        <p:spPr>
          <a:xfrm>
            <a:off x="684360" y="981000"/>
            <a:ext cx="3528720" cy="2417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8" descr="Rana_latouchtii_W-1"/>
          <p:cNvPicPr/>
          <p:nvPr/>
        </p:nvPicPr>
        <p:blipFill>
          <a:blip r:embed="rId4"/>
          <a:stretch/>
        </p:blipFill>
        <p:spPr>
          <a:xfrm>
            <a:off x="5003640" y="3860640"/>
            <a:ext cx="3600720" cy="2700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0"/>
          <p:cNvSpPr/>
          <p:nvPr/>
        </p:nvSpPr>
        <p:spPr>
          <a:xfrm>
            <a:off x="3471840" y="640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AutoShape 21"/>
          <p:cNvSpPr/>
          <p:nvPr/>
        </p:nvSpPr>
        <p:spPr>
          <a:xfrm>
            <a:off x="324000" y="3789360"/>
            <a:ext cx="1223640" cy="825480"/>
          </a:xfrm>
          <a:prstGeom prst="wedgeEllipseCallout">
            <a:avLst>
              <a:gd name="adj1" fmla="val 37027"/>
              <a:gd name="adj2" fmla="val 8230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華康娃娃體"/>
              </a:rPr>
              <a:t>單鳴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22"/>
          <p:cNvSpPr/>
          <p:nvPr/>
        </p:nvSpPr>
        <p:spPr>
          <a:xfrm>
            <a:off x="250920" y="0"/>
            <a:ext cx="1295280" cy="504720"/>
          </a:xfrm>
          <a:prstGeom prst="wedgeEllipseCallout">
            <a:avLst>
              <a:gd name="adj1" fmla="val 29287"/>
              <a:gd name="adj2" fmla="val 12012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華康娃娃體"/>
              </a:rPr>
              <a:t>雙鳴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23"/>
          <p:cNvSpPr/>
          <p:nvPr/>
        </p:nvSpPr>
        <p:spPr>
          <a:xfrm>
            <a:off x="7380360" y="3716280"/>
            <a:ext cx="1476360" cy="647640"/>
          </a:xfrm>
          <a:prstGeom prst="wedgeEllipseCallout">
            <a:avLst>
              <a:gd name="adj1" fmla="val -42041"/>
              <a:gd name="adj2" fmla="val 11005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Arial"/>
                <a:ea typeface="華康娃娃體"/>
              </a:rPr>
              <a:t>內鳴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b2b2b2"/>
                </a:solidFill>
                <a:latin typeface="華康墨字體"/>
              </a:rPr>
              <a:t>青 蛙 合 唱 團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不同種青蛙唱不同歌：不同語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玩偶-1"/>
          <p:cNvPicPr/>
          <p:nvPr/>
        </p:nvPicPr>
        <p:blipFill>
          <a:blip r:embed="rId1"/>
          <a:stretch/>
        </p:blipFill>
        <p:spPr>
          <a:xfrm>
            <a:off x="2195640" y="2349360"/>
            <a:ext cx="5256000" cy="3942000"/>
          </a:xfrm>
          <a:prstGeom prst="rect">
            <a:avLst/>
          </a:prstGeom>
          <a:ln w="0">
            <a:noFill/>
          </a:ln>
        </p:spPr>
      </p:pic>
      <p:pic>
        <p:nvPicPr>
          <p:cNvPr id="164" name="花東稻田.wma" descr=""/>
          <p:cNvPicPr/>
          <p:nvPr/>
        </p:nvPicPr>
        <p:blipFill>
          <a:blip r:embed="rId2"/>
          <a:stretch/>
        </p:blipFill>
        <p:spPr>
          <a:xfrm>
            <a:off x="611280" y="501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30185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b2b2b2"/>
                </a:solidFill>
                <a:latin typeface="華康墨字體"/>
              </a:rPr>
              <a:t>青 蛙 合 唱 團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353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同種青蛙在不同情境唱法不同：高低快慢節奏不同，老青蛙和年輕青蛙不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IMGP2183"/>
          <p:cNvPicPr/>
          <p:nvPr/>
        </p:nvPicPr>
        <p:blipFill>
          <a:blip r:embed="rId1"/>
          <a:stretch/>
        </p:blipFill>
        <p:spPr>
          <a:xfrm>
            <a:off x="1042920" y="2421000"/>
            <a:ext cx="7201080" cy="434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白頷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33280" y="692280"/>
            <a:ext cx="8675640" cy="5943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3"/>
          <p:cNvSpPr/>
          <p:nvPr/>
        </p:nvSpPr>
        <p:spPr>
          <a:xfrm>
            <a:off x="4427640" y="692280"/>
            <a:ext cx="4572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  <a:ea typeface="華康少女文字W5(P)"/>
              </a:rPr>
              <a:t>歡迎加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  <a:ea typeface="華康少女文字W5(P)"/>
              </a:rPr>
              <a:t>楊懿如的青蛙學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  <a:ea typeface="華康少女文字W5(P)"/>
              </a:rPr>
              <a:t>敬請期待下一單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00"/>
                </a:solidFill>
                <a:latin typeface="Arial"/>
                <a:ea typeface="華康少女文字W5(P)"/>
              </a:rPr>
              <a:t>青蛙四季唱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ttp://www.froghome.idv.t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白頷樹蛙.wav" descr=""/>
          <p:cNvPicPr/>
          <p:nvPr/>
        </p:nvPicPr>
        <p:blipFill>
          <a:blip r:embed="rId2"/>
          <a:stretch/>
        </p:blipFill>
        <p:spPr>
          <a:xfrm>
            <a:off x="814392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20364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011"/>
          <p:cNvPicPr/>
          <p:nvPr/>
        </p:nvPicPr>
        <p:blipFill>
          <a:blip r:embed="rId1"/>
          <a:stretch/>
        </p:blipFill>
        <p:spPr>
          <a:xfrm>
            <a:off x="250920" y="907920"/>
            <a:ext cx="4535280" cy="3108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010"/>
          <p:cNvPicPr/>
          <p:nvPr/>
        </p:nvPicPr>
        <p:blipFill>
          <a:blip r:embed="rId2"/>
          <a:stretch/>
        </p:blipFill>
        <p:spPr>
          <a:xfrm>
            <a:off x="250920" y="3848040"/>
            <a:ext cx="4392360" cy="3009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015"/>
          <p:cNvPicPr/>
          <p:nvPr/>
        </p:nvPicPr>
        <p:blipFill>
          <a:blip r:embed="rId3"/>
          <a:stretch/>
        </p:blipFill>
        <p:spPr>
          <a:xfrm>
            <a:off x="4427640" y="3774960"/>
            <a:ext cx="4500360" cy="3083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004"/>
          <p:cNvPicPr/>
          <p:nvPr/>
        </p:nvPicPr>
        <p:blipFill>
          <a:blip r:embed="rId4"/>
          <a:stretch/>
        </p:blipFill>
        <p:spPr>
          <a:xfrm>
            <a:off x="4572000" y="958680"/>
            <a:ext cx="4392720" cy="30099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4208400" y="222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Arial"/>
                <a:ea typeface="標楷體"/>
              </a:rPr>
              <a:t>莫氏樹蛙的一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900000" y="3284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3924360" y="5300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6443640" y="35002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>
            <a:off x="4140360" y="15573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13" descr="p038_tadpole"/>
          <p:cNvPicPr/>
          <p:nvPr/>
        </p:nvPicPr>
        <p:blipFill>
          <a:blip r:embed="rId5"/>
          <a:stretch/>
        </p:blipFill>
        <p:spPr>
          <a:xfrm>
            <a:off x="7238880" y="5540400"/>
            <a:ext cx="16765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b2b2b2"/>
                </a:solidFill>
                <a:latin typeface="Arial"/>
              </a:rPr>
              <a:t>公青蛙或母青蛙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外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50920" y="5516640"/>
            <a:ext cx="35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行為</a:t>
            </a:r>
            <a:r>
              <a:rPr b="0" lang="en-US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:</a:t>
            </a:r>
            <a:r>
              <a:rPr b="0" lang="zh-TW" sz="2800" spc="-1" strike="noStrike">
                <a:solidFill>
                  <a:srgbClr val="ffffff"/>
                </a:solidFill>
                <a:latin typeface="標楷體"/>
                <a:ea typeface="標楷體"/>
              </a:rPr>
              <a:t>公青蛙唱情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011"/>
          <p:cNvPicPr/>
          <p:nvPr/>
        </p:nvPicPr>
        <p:blipFill>
          <a:blip r:embed="rId1"/>
          <a:stretch/>
        </p:blipFill>
        <p:spPr>
          <a:xfrm>
            <a:off x="1908000" y="1413000"/>
            <a:ext cx="583272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b2b2b2"/>
                </a:solidFill>
                <a:latin typeface="Arial"/>
              </a:rPr>
              <a:t>青蛙為什麼唱歌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69840" y="1412640"/>
            <a:ext cx="77788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華康墨字體"/>
              </a:rPr>
              <a:t>雄蛙唱情歌追女朋友－宣告叫聲</a:t>
            </a:r>
            <a:br>
              <a:rPr sz="2800"/>
            </a:br>
            <a:r>
              <a:rPr b="0" lang="zh-TW" sz="2800" spc="-1" strike="noStrike">
                <a:solidFill>
                  <a:srgbClr val="ffffff"/>
                </a:solidFill>
                <a:latin typeface="華康墨字體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玩偶"/>
          <p:cNvPicPr/>
          <p:nvPr/>
        </p:nvPicPr>
        <p:blipFill>
          <a:blip r:embed="rId1"/>
          <a:stretch/>
        </p:blipFill>
        <p:spPr>
          <a:xfrm>
            <a:off x="250920" y="2276640"/>
            <a:ext cx="3708360" cy="2539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白頷公向母求偶"/>
          <p:cNvPicPr/>
          <p:nvPr/>
        </p:nvPicPr>
        <p:blipFill>
          <a:blip r:embed="rId2"/>
          <a:stretch/>
        </p:blipFill>
        <p:spPr>
          <a:xfrm>
            <a:off x="3419640" y="2708280"/>
            <a:ext cx="5437080" cy="3726000"/>
          </a:xfrm>
          <a:prstGeom prst="rect">
            <a:avLst/>
          </a:prstGeom>
          <a:ln w="0">
            <a:noFill/>
          </a:ln>
        </p:spPr>
      </p:pic>
      <p:pic>
        <p:nvPicPr>
          <p:cNvPr id="120" name="白頷樹蛙.wav" descr=""/>
          <p:cNvPicPr/>
          <p:nvPr/>
        </p:nvPicPr>
        <p:blipFill>
          <a:blip r:embed="rId3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036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b2b2b2"/>
                </a:solidFill>
                <a:latin typeface="華康墨字體"/>
              </a:rPr>
              <a:t>交配叫聲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2" name="Picture 8" descr="008"/>
          <p:cNvPicPr/>
          <p:nvPr/>
        </p:nvPicPr>
        <p:blipFill>
          <a:blip r:embed="rId1"/>
          <a:stretch/>
        </p:blipFill>
        <p:spPr>
          <a:xfrm>
            <a:off x="684360" y="1125360"/>
            <a:ext cx="8064360" cy="55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b2b2b2"/>
                </a:solidFill>
                <a:latin typeface="Arial"/>
              </a:rPr>
              <a:t>雄蛙宣告領域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4" name="Picture 6" descr="IMG0001"/>
          <p:cNvPicPr/>
          <p:nvPr/>
        </p:nvPicPr>
        <p:blipFill>
          <a:blip r:embed="rId1"/>
          <a:stretch/>
        </p:blipFill>
        <p:spPr>
          <a:xfrm>
            <a:off x="395280" y="1413000"/>
            <a:ext cx="5184720" cy="345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玩偶-2"/>
          <p:cNvPicPr/>
          <p:nvPr/>
        </p:nvPicPr>
        <p:blipFill>
          <a:blip r:embed="rId2"/>
          <a:stretch/>
        </p:blipFill>
        <p:spPr>
          <a:xfrm>
            <a:off x="4572000" y="3429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b2b2b2"/>
                </a:solidFill>
                <a:latin typeface="華康墨字體"/>
              </a:rPr>
              <a:t>遭遇叫聲</a:t>
            </a:r>
            <a:r>
              <a:rPr b="0" lang="zh-TW" sz="4000" spc="-1" strike="noStrike">
                <a:solidFill>
                  <a:srgbClr val="b2b2b2"/>
                </a:solidFill>
                <a:latin typeface="華康魏碑體(P)"/>
                <a:ea typeface="華康魏碑體(P)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287280" y="1484280"/>
          <a:ext cx="8569440" cy="484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1484280"/>
                    <a:ext cx="8569440" cy="48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IMG0100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611280" y="1125360"/>
            <a:ext cx="7920000" cy="5280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91520" cy="15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b2b2b2"/>
                </a:solidFill>
                <a:latin typeface="華康墨字體"/>
              </a:rPr>
              <a:t>釋放叫聲 </a:t>
            </a:r>
            <a:r>
              <a:rPr b="0" lang="zh-TW" sz="3200" spc="-1" strike="noStrike">
                <a:solidFill>
                  <a:srgbClr val="b2b2b2"/>
                </a:solidFill>
                <a:latin typeface="華康墨字體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4500720" y="1268280"/>
            <a:ext cx="3311280" cy="1513080"/>
          </a:xfrm>
          <a:prstGeom prst="wedgeEllipseCallout">
            <a:avLst>
              <a:gd name="adj1" fmla="val -48273"/>
              <a:gd name="adj2" fmla="val 10781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抱錯了－我是公的，別騷擾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梭德氏赤蛙.wav" descr=""/>
          <p:cNvPicPr/>
          <p:nvPr/>
        </p:nvPicPr>
        <p:blipFill>
          <a:blip r:embed="rId2"/>
          <a:stretch/>
        </p:blipFill>
        <p:spPr>
          <a:xfrm>
            <a:off x="25092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0604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5840" y="404640"/>
            <a:ext cx="6772320" cy="8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b2b2b2"/>
                </a:solidFill>
                <a:latin typeface="華康墨字體"/>
              </a:rPr>
              <a:t>救命叫聲</a:t>
            </a:r>
            <a:r>
              <a:rPr b="0" lang="zh-TW" sz="4000" spc="-1" strike="noStrike">
                <a:solidFill>
                  <a:srgbClr val="b2b2b2"/>
                </a:solidFill>
                <a:latin typeface="華康魏碑體(P)"/>
                <a:ea typeface="華康魏碑體(P)"/>
              </a:rPr>
              <a:t>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4" name="Picture 4" descr="紅班蛇補白頷樹蛙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826920" y="1341360"/>
            <a:ext cx="7850520" cy="537840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6"/>
          <p:cNvSpPr/>
          <p:nvPr/>
        </p:nvSpPr>
        <p:spPr>
          <a:xfrm>
            <a:off x="6588000" y="260280"/>
            <a:ext cx="1871640" cy="936720"/>
          </a:xfrm>
          <a:prstGeom prst="wedgeEllipseCallout">
            <a:avLst>
              <a:gd name="adj1" fmla="val -33037"/>
              <a:gd name="adj2" fmla="val 201185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華康墨字體"/>
              </a:rPr>
              <a:t>唉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華康墨字體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華康墨字體"/>
              </a:rPr>
              <a:t>好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3:58:32Z</dcterms:created>
  <dc:creator>楊懿如</dc:creator>
  <dc:description/>
  <dc:language>en-US</dc:language>
  <cp:lastModifiedBy>妹妹</cp:lastModifiedBy>
  <dcterms:modified xsi:type="dcterms:W3CDTF">2012-06-25T06:49:08Z</dcterms:modified>
  <cp:revision>292</cp:revision>
  <dc:subject/>
  <dc:title>聽青蛙唱歌</dc:title>
</cp:coreProperties>
</file>